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14.png" ContentType="image/png"/>
  <Override PartName="/ppt/media/image9.wmf" ContentType="image/x-wmf"/>
  <Override PartName="/ppt/media/image41.png" ContentType="image/png"/>
  <Override PartName="/ppt/media/image38.png" ContentType="image/png"/>
  <Override PartName="/ppt/media/image39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7.wmf" ContentType="image/x-wmf"/>
  <Override PartName="/ppt/media/image31.jpeg" ContentType="image/jpeg"/>
  <Override PartName="/ppt/media/image10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4619-3541-43FF-B87E-2DE1A963A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25A-513E-478A-A925-3D4EA55A0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ad themes such as change, cultures, discovery, environments, interaction, inventions, power, systems, time and work provide a greater opportunity for teachers of various disciplines to find common topics, concepts and ski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8AF-71F3-4781-B740-0990CEC56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870-2007-4C58-B8B5-B699F96ED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61E-3D78-4A23-A03B-CEEF9C9A3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260-3796-4B58-A236-CA663466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BC7-3F6A-4BB9-9DC1-534D0007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209-30B2-4695-B7B1-A5DD9131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986-819D-446C-98E9-55BDE32F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A60D-ECA5-44DC-B694-8592D15D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73BF-6783-4678-B487-6FEC97F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7325-D450-41CA-8A8D-EDC228DA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6549-8C1E-4380-AD94-D1C445B7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613D-E0A1-486A-87DB-508AF9FC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099-06B0-4794-8E3F-CDFC280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2BCA-96D0-4E78-8970-11426CA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9DB-43D6-4C65-B1BC-CB463DED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3DD4-9A21-49E3-A593-FE1C976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84E-C846-4B22-9BBD-7C4C82F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CAC3-6E19-4E68-A67B-FD816F5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56C9-91F5-42CA-88EE-F77FB914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2182-EA82-4C4C-A17F-1592929B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61F9-992A-4EB4-9BBC-05847756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5D65-BBE8-43AC-A131-02527DDC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3FC2-E77B-4B6E-A46A-797B3048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337A-9C6D-4BD7-9CF2-CC557B3B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240B-C6FA-47D0-955B-F1430676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AEF-9F63-494A-8991-C5C44CE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F551-358A-43B7-B44A-9B1888EE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9B52-056E-4B7F-AF18-102E0ED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0FD6-0254-4A02-9E29-C87BDAFF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6178-7CDA-414B-8163-3610189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9D2F-400F-4B85-9FA9-192106E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0F44-8634-4B36-B5A6-FC33E8B7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2E01-B845-4242-92A0-2544F235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AF67-94F3-4489-B781-C491C5AF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8B88-7FF7-4EE8-93C5-F6898B98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DAEA-41F8-408E-83DC-CCF6BCF6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739-CD6A-4E90-AB00-F32D214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8A44-9CDD-458D-839B-FE00C915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FE9EB-ECB7-4D9B-8891-CB1CAC42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763D-E59D-4024-A72D-F347C80D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47D1-6294-4ABD-9956-A4EE711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D958-2014-4783-9ABF-F292CA20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992D-3D52-47C0-A9A2-68B9D2D1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7F43-9C8A-4D61-9284-63AA21B5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F5D2-72FE-4544-9270-6900DFDB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C2810-C18C-4522-AE6F-2E7278A0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DB9-4A11-42F2-A06A-3EE97D71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F63-EDA7-46EF-9078-B0948677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EFE-F0B8-419A-B25B-E6D19E5D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64F-36F0-4DEE-80E2-34E78DA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06F-860A-43C4-82CF-74983BD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962D-8D21-4B88-9F6A-1A651F0B55B0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4B9D-A00A-441A-A383-0E1341E822E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3161-FFF4-4EF7-8287-16B5BDED40A9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0534-D808-4D8B-A631-D92A0D2127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9CCA-EAD8-4165-A7C6-80D17D29AD1C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0DD-2681-4780-BF80-9623D22E57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027-F437-41B3-B43E-D9212248F0D2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715-9C8C-41A7-8896-6D8DEBEDBE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89040" y="122400"/>
            <a:ext cx="8326440" cy="2176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520" y="4268880"/>
            <a:ext cx="3657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vid Stubb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vid@stubbsonline.n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90504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2F07-7FA5-41CB-89C1-7AB03DF7327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533520" y="5486400"/>
            <a:ext cx="806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should be the route for the Al-Corniche line of the Doha metr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4419720" y="4267080"/>
            <a:ext cx="3657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al Rustom Ham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hamam@qf.org.q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6840" y="1981080"/>
            <a:ext cx="4040280" cy="4648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se a broad theme, e.g. change, culture, environment, wor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eater opportunity for interactio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se webbing to create idea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te as many ideas as possibl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ccept all ideas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ek clarification, if necessary, but do not edit at this stag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courage people to brainstorm on their own before contributing to a common pool of ideas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ember that brainstorming is an open-ended exercise. At any time, new ideas or directions may be introduced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 not close down the process too soon. Provide ample thinking tim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4720" y="1981080"/>
            <a:ext cx="40417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r" rtl="1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 موضوع عام واسع ، على سبيل المثال التغيير ، والثقافة ، والبيئة ، والعمل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خلق فرصة أكبر للتفاعل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 الويب لخلق الأفكا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عطاء العديد من الأفكار قدر الامكان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قبول كل الأفكا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صول على توضيحات ، إذا لزم الأمر ، ولكن لا تحرير في هذه المرحلة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شجيع الناس على عصرالأفكار من تلقاء انفسهم قبل المساهمة في مشاركة الاخرين بها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ذكر أن العصف الذهني هو ممارسة لا نهاية لها. في أي وقت ، قد يتم عرض أفكار جديدة أو اتجاهات جديد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نهي العملية بسرعة. وفر الوقت  الكافي للتفكي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E3F8-37AA-44B9-8A09-D49FE10506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727200" y="449280"/>
            <a:ext cx="841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851040" y="612720"/>
            <a:ext cx="9586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655560" y="593640"/>
            <a:ext cx="123516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5" descr="Webbed"/>
          <p:cNvPicPr/>
          <p:nvPr/>
        </p:nvPicPr>
        <p:blipFill>
          <a:blip r:embed="rId1"/>
          <a:stretch/>
        </p:blipFill>
        <p:spPr>
          <a:xfrm>
            <a:off x="7458120" y="61128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19240"/>
            <a:ext cx="662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bed </a:t>
            </a:r>
            <a:r>
              <a:rPr b="0" lang="en-US" sz="2500" spc="-1" strike="noStrike">
                <a:solidFill>
                  <a:srgbClr val="04617b"/>
                </a:solidFill>
                <a:latin typeface="Calibri"/>
              </a:rPr>
              <a:t>(across subjects)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Title 6"/>
          <p:cNvSpPr/>
          <p:nvPr/>
        </p:nvSpPr>
        <p:spPr>
          <a:xfrm>
            <a:off x="380880" y="933480"/>
            <a:ext cx="6629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تشابك</a:t>
            </a:r>
            <a:r>
              <a:rPr b="0" lang="ar-Q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(</a:t>
            </a:r>
            <a:r>
              <a:rPr b="0" lang="ar-QA" sz="24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عبر الموضوعات</a:t>
            </a:r>
            <a:r>
              <a:rPr b="0" lang="ar-Q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b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97920" indent="-97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bubbl.us to help with the brainstorming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7920" indent="-97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7920" indent="-979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للمساعدة في العصف الذهني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bble.us </a:t>
            </a: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م</a:t>
            </a:r>
            <a:r>
              <a:rPr b="0" lang="ar-Q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7920" indent="-97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FFC-1460-454E-B1FB-22D12901B1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itle 1"/>
          <p:cNvSpPr/>
          <p:nvPr/>
        </p:nvSpPr>
        <p:spPr>
          <a:xfrm>
            <a:off x="457200" y="112392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شابك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3" descr=""/>
          <p:cNvPicPr/>
          <p:nvPr/>
        </p:nvPicPr>
        <p:blipFill>
          <a:blip r:embed="rId1"/>
          <a:stretch/>
        </p:blipFill>
        <p:spPr>
          <a:xfrm>
            <a:off x="115920" y="11592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rcRect l="8679" t="37120" r="70144" b="35164"/>
          <a:stretch/>
        </p:blipFill>
        <p:spPr>
          <a:xfrm>
            <a:off x="2036880" y="2057400"/>
            <a:ext cx="5692680" cy="419112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B8A4-E175-45D1-A239-5B2CCBCE6E6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Title 3" descr=""/>
          <p:cNvPicPr/>
          <p:nvPr/>
        </p:nvPicPr>
        <p:blipFill>
          <a:blip r:embed="rId3"/>
          <a:stretch/>
        </p:blipFill>
        <p:spPr>
          <a:xfrm>
            <a:off x="457200" y="871560"/>
            <a:ext cx="8308800" cy="1090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2"/>
          <p:cNvSpPr/>
          <p:nvPr/>
        </p:nvSpPr>
        <p:spPr>
          <a:xfrm>
            <a:off x="1219320" y="617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Buck Institute Websi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ossible Proje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a surv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a repor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a newspaper artic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ze results of surv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charts and tab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vel char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igate impact of Doha Metro on global warm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igate MagLe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غة الإنجليز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صميم المسح العا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تابة تقري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تابة مقالة في صحيف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ياض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نتائج المسح العا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إنشاء الرسوم البيانية والجداو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خططات السف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و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حقيق في تأثير مترو الدوحة بشأن الاحتباس الحراري العالم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حقيق في ماجلي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رع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C396-B087-4796-8E96-62CEA49158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457200" y="871560"/>
            <a:ext cx="83088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ore possible project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: LOTS of design 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or scheme for metro wag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 for Doha Me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wareness pos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work for walls of st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ro ma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lamic Stud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 to reflect Islamic princ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Studi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ن : الكثيرمن التصاميم الممكن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خطط الالوان لعربات المتر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ار لمترو الدوح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علانات للدعا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عمال الفنية لجدران المحط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ريطة متر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راسات الاسلام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باني التي تعكس المبادئ الإسلام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وم الإجتماع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سائل المواصل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717-1789-4773-A096-3A8195581A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itle 1"/>
          <p:cNvSpPr/>
          <p:nvPr/>
        </p:nvSpPr>
        <p:spPr>
          <a:xfrm>
            <a:off x="45720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شاريع اخرى محتملة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uest Speake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20600"/>
            <a:ext cx="403848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ite a guest speak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schools will have a student who has a parent who is involved with the Doha Metro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تزك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عوة ضيف شرف متحدث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وف يكون  في جميع المدارس طلاب من الذين اباءهم يشاركون في مشروع مترو الدوح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556C-80E2-440F-AED2-6237B1C842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457200" y="104760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ضيف المتحدث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2" descr="http://www.guest-speakers-mc.co.za/images/guest_speaker_motivational_mc_keynote.jpg"/>
          <p:cNvPicPr/>
          <p:nvPr/>
        </p:nvPicPr>
        <p:blipFill>
          <a:blip r:embed="rId1"/>
          <a:stretch/>
        </p:blipFill>
        <p:spPr>
          <a:xfrm>
            <a:off x="2514600" y="3675240"/>
            <a:ext cx="20574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59004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ject Wiki for online resourc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learningtoexcel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2242-BE3A-48F9-AE17-089A97012E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itle 1"/>
          <p:cNvSpPr/>
          <p:nvPr/>
        </p:nvSpPr>
        <p:spPr>
          <a:xfrm>
            <a:off x="419040" y="1219320"/>
            <a:ext cx="8229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شروع ويكي للموارد على الانترنت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4" descr=""/>
          <p:cNvPicPr/>
          <p:nvPr/>
        </p:nvPicPr>
        <p:blipFill>
          <a:blip r:embed="rId1"/>
          <a:stretch/>
        </p:blipFill>
        <p:spPr>
          <a:xfrm>
            <a:off x="536400" y="3127320"/>
            <a:ext cx="8296560" cy="158436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CD7-07EF-4BD1-9FB0-C516A86DDD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Title 4" descr=""/>
          <p:cNvPicPr/>
          <p:nvPr/>
        </p:nvPicPr>
        <p:blipFill>
          <a:blip r:embed="rId2"/>
          <a:stretch/>
        </p:blipFill>
        <p:spPr>
          <a:xfrm>
            <a:off x="689040" y="1725480"/>
            <a:ext cx="8302680" cy="1584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8"/>
          <p:cNvSpPr/>
          <p:nvPr/>
        </p:nvSpPr>
        <p:spPr>
          <a:xfrm>
            <a:off x="1752480" y="47242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vid and Am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488120" y="513396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Constantia"/>
                <a:cs typeface="Majalla UI"/>
              </a:rPr>
              <a:t>أمل و ديفيد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y use Project-Based Learning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Broader and richer learning perspecti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Meets demands of the 21</a:t>
            </a:r>
            <a:r>
              <a:rPr b="0" lang="en-IE" sz="2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st</a:t>
            </a: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Makes meaningful conne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Allows for a variety of approaches and methodologie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Caters for different learning styles and interests  of stud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Encourages the sharing of ideas and good practi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Required by National Professional Standard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ظور التعلم يصبح أوسع نطاقا وأكثر ثر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طابق متطلبات التعلم في القرن </a:t>
            </a:r>
            <a:r>
              <a:rPr b="0" lang="ar-Q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جعل التواصل ذو مغز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سمح للتنوع في النهج والمنهج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رعى مختلف أنماط التعلم واهتمامات الطلا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شجع تبادل الأفكار والممارسات الجيد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ي تتطلبها المعايير المهنية الوطن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38088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لماذا نستخدم التعليم القائم على المشاريع؟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DC6F-C478-45E9-A49D-FF545FD34D4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6969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hallenges of Project-Based Learn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election of  good digital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an be haphazard – easy to go off ta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ifficult to assess / evalu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20960"/>
            <a:ext cx="403848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حضير والاعدا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يار جيد للموارد الرقم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أن تكون عشوائية – اسهل أن  تخرج عن الموضو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صعب التقدير/ والتقيي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Documents and Settings\USER\Local Settings\Temporary Internet Files\Content.IE5\JRYMZICL\MC900438012[1].wmf"/>
          <p:cNvPicPr/>
          <p:nvPr/>
        </p:nvPicPr>
        <p:blipFill>
          <a:blip r:embed="rId1"/>
          <a:stretch/>
        </p:blipFill>
        <p:spPr>
          <a:xfrm>
            <a:off x="7405560" y="5257800"/>
            <a:ext cx="1554120" cy="1495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Documents and Settings\USER\Local Settings\Temporary Internet Files\Content.IE5\2PMXS27G\MC900442038[1].wmf"/>
          <p:cNvPicPr/>
          <p:nvPr/>
        </p:nvPicPr>
        <p:blipFill>
          <a:blip r:embed="rId2"/>
          <a:stretch/>
        </p:blipFill>
        <p:spPr>
          <a:xfrm>
            <a:off x="228600" y="5294160"/>
            <a:ext cx="1247760" cy="1554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USER\Local Settings\Temporary Internet Files\Content.IE5\1S94NCNX\MC900440412[1].wmf"/>
          <p:cNvPicPr/>
          <p:nvPr/>
        </p:nvPicPr>
        <p:blipFill>
          <a:blip r:embed="rId3"/>
          <a:stretch/>
        </p:blipFill>
        <p:spPr>
          <a:xfrm>
            <a:off x="2360520" y="5403960"/>
            <a:ext cx="1830600" cy="1485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Documents and Settings\USER\Local Settings\Temporary Internet Files\Content.IE5\7BB4WZCY\MC900434393[1].wmf"/>
          <p:cNvPicPr/>
          <p:nvPr/>
        </p:nvPicPr>
        <p:blipFill>
          <a:blip r:embed="rId4"/>
          <a:stretch/>
        </p:blipFill>
        <p:spPr>
          <a:xfrm>
            <a:off x="4873680" y="5530680"/>
            <a:ext cx="1832040" cy="1251000"/>
          </a:xfrm>
          <a:prstGeom prst="rect">
            <a:avLst/>
          </a:prstGeom>
          <a:ln w="0">
            <a:noFill/>
          </a:ln>
        </p:spPr>
      </p:pic>
      <p:sp>
        <p:nvSpPr>
          <p:cNvPr id="220" name="Title 1"/>
          <p:cNvSpPr/>
          <p:nvPr/>
        </p:nvSpPr>
        <p:spPr>
          <a:xfrm>
            <a:off x="228600" y="1238400"/>
            <a:ext cx="8763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228600" y="1238400"/>
            <a:ext cx="8763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تحديات التعلم القائم على المشروع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D3A4-09B7-415C-9251-F95512CB68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3" descr=""/>
          <p:cNvPicPr/>
          <p:nvPr/>
        </p:nvPicPr>
        <p:blipFill>
          <a:blip r:embed="rId1"/>
          <a:stretch/>
        </p:blipFill>
        <p:spPr>
          <a:xfrm>
            <a:off x="115920" y="438120"/>
            <a:ext cx="8650080" cy="1201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Ciara\Desktop\IMG_4485.JPG"/>
          <p:cNvPicPr/>
          <p:nvPr/>
        </p:nvPicPr>
        <p:blipFill>
          <a:blip r:embed="rId2"/>
          <a:stretch/>
        </p:blipFill>
        <p:spPr>
          <a:xfrm>
            <a:off x="3581280" y="240984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1371600" y="4952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oregonstate.edu/instruction/ed555/zone3/tenways.ht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ck Institute of Education [FANTASTIC: hundreds of resource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Title 3" descr=""/>
          <p:cNvPicPr/>
          <p:nvPr/>
        </p:nvPicPr>
        <p:blipFill>
          <a:blip r:embed="rId3"/>
          <a:stretch/>
        </p:blipFill>
        <p:spPr>
          <a:xfrm>
            <a:off x="609480" y="1176480"/>
            <a:ext cx="8309160" cy="1090440"/>
          </a:xfrm>
          <a:prstGeom prst="rect">
            <a:avLst/>
          </a:prstGeom>
          <a:ln w="0">
            <a:noFill/>
          </a:ln>
        </p:spPr>
      </p:pic>
      <p:sp>
        <p:nvSpPr>
          <p:cNvPr id="227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FCB-68AB-4CD3-A369-228FD28D12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15920" y="407880"/>
            <a:ext cx="6894360" cy="1201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Fragmented"/>
          <p:cNvPicPr/>
          <p:nvPr/>
        </p:nvPicPr>
        <p:blipFill>
          <a:blip r:embed="rId2"/>
          <a:stretch/>
        </p:blipFill>
        <p:spPr>
          <a:xfrm>
            <a:off x="7591320" y="4809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30" name="Line 4"/>
          <p:cNvSpPr/>
          <p:nvPr/>
        </p:nvSpPr>
        <p:spPr>
          <a:xfrm flipH="1">
            <a:off x="4198680" y="2606760"/>
            <a:ext cx="68040" cy="37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1785960" y="4191120"/>
            <a:ext cx="489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4870440" y="4327560"/>
            <a:ext cx="1689120" cy="404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4687920" y="2036880"/>
            <a:ext cx="1554120" cy="4046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2041560" y="4316400"/>
            <a:ext cx="1560600" cy="4199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6"/>
          <a:stretch/>
        </p:blipFill>
        <p:spPr>
          <a:xfrm>
            <a:off x="2041560" y="1878120"/>
            <a:ext cx="1560600" cy="4059000"/>
          </a:xfrm>
          <a:prstGeom prst="rect">
            <a:avLst/>
          </a:prstGeom>
          <a:ln w="0">
            <a:noFill/>
          </a:ln>
        </p:spPr>
      </p:pic>
      <p:pic>
        <p:nvPicPr>
          <p:cNvPr id="236" name="Title 1" descr=""/>
          <p:cNvPicPr/>
          <p:nvPr/>
        </p:nvPicPr>
        <p:blipFill>
          <a:blip r:embed="rId7"/>
          <a:stretch/>
        </p:blipFill>
        <p:spPr>
          <a:xfrm>
            <a:off x="536400" y="1066680"/>
            <a:ext cx="6553440" cy="109080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F26-D6B8-4984-A02B-1571DC7F20F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0" y="426960"/>
            <a:ext cx="7547040" cy="1073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onnected"/>
          <p:cNvPicPr/>
          <p:nvPr/>
        </p:nvPicPr>
        <p:blipFill>
          <a:blip r:embed="rId2"/>
          <a:stretch/>
        </p:blipFill>
        <p:spPr>
          <a:xfrm>
            <a:off x="7772400" y="5446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9"/>
          <p:cNvSpPr/>
          <p:nvPr/>
        </p:nvSpPr>
        <p:spPr>
          <a:xfrm>
            <a:off x="453960" y="199224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al Langu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3197160" y="3733920"/>
            <a:ext cx="16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5877000" y="48769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4" descr="Description: http://www.aldermansmith.warwickshire.sch.uk/images/Emoticon.jpg"/>
          <p:cNvPicPr/>
          <p:nvPr/>
        </p:nvPicPr>
        <p:blipFill>
          <a:blip r:embed="rId3"/>
          <a:stretch/>
        </p:blipFill>
        <p:spPr>
          <a:xfrm>
            <a:off x="1600200" y="2306520"/>
            <a:ext cx="1521000" cy="1328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Description: C:\Documents and Settings\USER\Local Settings\Temporary Internet Files\Content.IE5\O52K93MP\MC900437990[1].wmf"/>
          <p:cNvPicPr/>
          <p:nvPr/>
        </p:nvPicPr>
        <p:blipFill>
          <a:blip r:embed="rId4"/>
          <a:stretch/>
        </p:blipFill>
        <p:spPr>
          <a:xfrm>
            <a:off x="4419720" y="3633840"/>
            <a:ext cx="14382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Description: C:\Documents and Settings\USER\Local Settings\Temporary Internet Files\Content.IE5\2PMXS27G\MC900440428[1].wmf"/>
          <p:cNvPicPr/>
          <p:nvPr/>
        </p:nvPicPr>
        <p:blipFill>
          <a:blip r:embed="rId5"/>
          <a:stretch/>
        </p:blipFill>
        <p:spPr>
          <a:xfrm>
            <a:off x="6934320" y="524664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2EC2-15A0-479B-93E5-D3B3A58332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1"/>
          <p:cNvSpPr/>
          <p:nvPr/>
        </p:nvSpPr>
        <p:spPr>
          <a:xfrm>
            <a:off x="533520" y="2373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3276720" y="404964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5943600" y="52689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Title 1" descr=""/>
          <p:cNvPicPr/>
          <p:nvPr/>
        </p:nvPicPr>
        <p:blipFill>
          <a:blip r:embed="rId6"/>
          <a:stretch/>
        </p:blipFill>
        <p:spPr>
          <a:xfrm>
            <a:off x="304920" y="1189080"/>
            <a:ext cx="72421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457200" y="596880"/>
            <a:ext cx="6480000" cy="170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Nested"/>
          <p:cNvPicPr/>
          <p:nvPr/>
        </p:nvPicPr>
        <p:blipFill>
          <a:blip r:embed="rId2"/>
          <a:stretch/>
        </p:blipFill>
        <p:spPr>
          <a:xfrm>
            <a:off x="7559640" y="69840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253" name="Diagram 6" descr=""/>
          <p:cNvPicPr/>
          <p:nvPr/>
        </p:nvPicPr>
        <p:blipFill>
          <a:blip r:embed="rId3"/>
          <a:stretch/>
        </p:blipFill>
        <p:spPr>
          <a:xfrm>
            <a:off x="1523880" y="2577960"/>
            <a:ext cx="6096240" cy="409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7153200" y="461016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5" name="Straight Arrow Connector 12"/>
          <p:cNvCxnSpPr/>
          <p:nvPr/>
        </p:nvCxnSpPr>
        <p:spPr>
          <a:xfrm>
            <a:off x="2620800" y="5235120"/>
            <a:ext cx="1524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14"/>
          <p:cNvCxnSpPr/>
          <p:nvPr/>
        </p:nvCxnSpPr>
        <p:spPr>
          <a:xfrm flipV="1">
            <a:off x="4571640" y="4266360"/>
            <a:ext cx="108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Straight Arrow Connector 16"/>
          <p:cNvCxnSpPr/>
          <p:nvPr/>
        </p:nvCxnSpPr>
        <p:spPr>
          <a:xfrm flipV="1">
            <a:off x="4571640" y="3200040"/>
            <a:ext cx="10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Slide Number Placeholder 3"/>
          <p:cNvSpPr/>
          <p:nvPr/>
        </p:nvSpPr>
        <p:spPr>
          <a:xfrm>
            <a:off x="795492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ECCF-011F-49A4-96A2-5564E778FE3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838080" y="45720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6443640" cy="120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sequenced"/>
          <p:cNvPicPr/>
          <p:nvPr/>
        </p:nvPicPr>
        <p:blipFill>
          <a:blip r:embed="rId2"/>
          <a:stretch/>
        </p:blipFill>
        <p:spPr>
          <a:xfrm>
            <a:off x="7238880" y="83808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262" name="Oval 4"/>
          <p:cNvSpPr/>
          <p:nvPr/>
        </p:nvSpPr>
        <p:spPr>
          <a:xfrm>
            <a:off x="1066680" y="2789280"/>
            <a:ext cx="2819520" cy="2590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ungle Boo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198108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Oval 6"/>
          <p:cNvSpPr/>
          <p:nvPr/>
        </p:nvSpPr>
        <p:spPr>
          <a:xfrm>
            <a:off x="5715000" y="2833560"/>
            <a:ext cx="2819520" cy="2590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cosyste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www.filmedge.net/JB/boxart.png"/>
          <p:cNvPicPr/>
          <p:nvPr/>
        </p:nvPicPr>
        <p:blipFill>
          <a:blip r:embed="rId3"/>
          <a:stretch/>
        </p:blipFill>
        <p:spPr>
          <a:xfrm rot="20388600">
            <a:off x="368280" y="4175280"/>
            <a:ext cx="1859040" cy="24699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8"/>
          <p:cNvSpPr/>
          <p:nvPr/>
        </p:nvSpPr>
        <p:spPr>
          <a:xfrm>
            <a:off x="6010200" y="22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http://www.solarnavigator.net/animal_kingdom/animal_images/Tiger_panthera_tigris_tigris_Bengal.jpg"/>
          <p:cNvPicPr/>
          <p:nvPr/>
        </p:nvPicPr>
        <p:blipFill>
          <a:blip r:embed="rId4"/>
          <a:stretch/>
        </p:blipFill>
        <p:spPr>
          <a:xfrm rot="868200">
            <a:off x="6629040" y="4676400"/>
            <a:ext cx="2286000" cy="175572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5BA9-5259-4E8A-8784-A3D4C4D783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Title 1" descr=""/>
          <p:cNvPicPr/>
          <p:nvPr/>
        </p:nvPicPr>
        <p:blipFill>
          <a:blip r:embed="rId5"/>
          <a:stretch/>
        </p:blipFill>
        <p:spPr>
          <a:xfrm>
            <a:off x="384120" y="1006560"/>
            <a:ext cx="6437520" cy="1206360"/>
          </a:xfrm>
          <a:prstGeom prst="rect">
            <a:avLst/>
          </a:prstGeom>
          <a:ln w="0">
            <a:noFill/>
          </a:ln>
        </p:spPr>
      </p:pic>
      <p:cxnSp>
        <p:nvCxnSpPr>
          <p:cNvPr id="270" name="Straight Arrow Connector 9"/>
          <p:cNvCxnSpPr/>
          <p:nvPr/>
        </p:nvCxnSpPr>
        <p:spPr>
          <a:xfrm>
            <a:off x="4114800" y="3930120"/>
            <a:ext cx="1448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15920" y="152280"/>
            <a:ext cx="5145120" cy="1200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Shared"/>
          <p:cNvPicPr/>
          <p:nvPr/>
        </p:nvPicPr>
        <p:blipFill>
          <a:blip r:embed="rId2"/>
          <a:stretch/>
        </p:blipFill>
        <p:spPr>
          <a:xfrm>
            <a:off x="7315200" y="83808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273" name="Diagram 3" descr=""/>
          <p:cNvPicPr/>
          <p:nvPr/>
        </p:nvPicPr>
        <p:blipFill>
          <a:blip r:embed="rId3"/>
          <a:stretch/>
        </p:blipFill>
        <p:spPr>
          <a:xfrm>
            <a:off x="1523880" y="1395360"/>
            <a:ext cx="6096240" cy="40784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3581280" y="5943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represent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75" name="Straight Arrow Connector 6"/>
          <p:cNvCxnSpPr/>
          <p:nvPr/>
        </p:nvCxnSpPr>
        <p:spPr>
          <a:xfrm flipV="1">
            <a:off x="4495680" y="3962160"/>
            <a:ext cx="7668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B54-B7AA-4261-9650-095078D255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Title 1" descr=""/>
          <p:cNvPicPr/>
          <p:nvPr/>
        </p:nvPicPr>
        <p:blipFill>
          <a:blip r:embed="rId4"/>
          <a:stretch/>
        </p:blipFill>
        <p:spPr>
          <a:xfrm>
            <a:off x="304920" y="944640"/>
            <a:ext cx="51022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8:19:08Z</dcterms:created>
  <dc:creator>David</dc:creator>
  <dc:description/>
  <dc:language>en-US</dc:language>
  <cp:lastModifiedBy>Vista</cp:lastModifiedBy>
  <cp:lastPrinted>2010-10-11T05:12:36Z</cp:lastPrinted>
  <dcterms:modified xsi:type="dcterms:W3CDTF">2010-10-18T11:29:58Z</dcterms:modified>
  <cp:revision>71</cp:revision>
  <dc:subject/>
  <dc:title>Using Local Resources for Project-Based Learning</dc:title>
</cp:coreProperties>
</file>